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3903-64DD-4717-BDCF-95B82C0A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8BA3-C769-40FB-830E-4ACCC2EA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2291-96F7-4168-AE5D-A8C403AF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B127-8D60-49AB-8FEA-D5D460A7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48A9-AF81-4272-B4D8-BF1B1214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BFFB-9A55-4AC7-A55C-3FB1FBEC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ECC8-6D1C-4D52-8453-DFCB88C8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E92D-DD08-4F46-B07F-C485D9A3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263C-BA1E-472C-A445-F9118CB0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2D96-9F55-4419-A7A4-C39C63BB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C26C-77D9-4E67-90A3-22A89965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34C5-8436-45CE-B107-595553B1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028A-B59F-4E8C-9B9F-F1D608E863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060280"/>
            <a:ext cx="8713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6633"/>
                </a:solidFill>
                <a:latin typeface="Adobe Caslon Pro Bold"/>
              </a:rPr>
              <a:t>КУБ </a:t>
            </a:r>
            <a:br>
              <a:rPr sz="7200"/>
            </a:br>
            <a:r>
              <a:rPr b="1" lang="en-US" sz="7200" spc="-1" strike="noStrike">
                <a:solidFill>
                  <a:srgbClr val="996633"/>
                </a:solidFill>
                <a:latin typeface="Adobe Caslon Pro Bold"/>
              </a:rPr>
              <a:t>И ЕГО СВОЙСТВА</a:t>
            </a:r>
            <a:br>
              <a:rPr sz="7200"/>
            </a:br>
            <a:r>
              <a:rPr b="1" lang="en-US" sz="7200" spc="-1" strike="noStrike">
                <a:solidFill>
                  <a:srgbClr val="996633"/>
                </a:solidFill>
                <a:latin typeface="Arial"/>
              </a:rPr>
              <a:t>(решение задач)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8469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6633"/>
                </a:solidFill>
                <a:latin typeface="Calibri"/>
              </a:rPr>
              <a:t>Урок окончен.</a:t>
            </a:r>
            <a:br>
              <a:rPr sz="7200"/>
            </a:br>
            <a:r>
              <a:rPr b="1" lang="en-US" sz="7200" spc="-1" strike="noStrike">
                <a:solidFill>
                  <a:srgbClr val="996633"/>
                </a:solidFill>
                <a:latin typeface="Calibri"/>
              </a:rPr>
              <a:t>Спасибо.</a:t>
            </a:r>
            <a:br>
              <a:rPr sz="7200"/>
            </a:br>
            <a:r>
              <a:rPr b="1" lang="en-US" sz="7200" spc="-1" strike="noStrike">
                <a:solidFill>
                  <a:srgbClr val="996633"/>
                </a:solidFill>
                <a:latin typeface="Calibri"/>
              </a:rPr>
              <a:t>До свидани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вторение пройденного материа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651280" y="1700280"/>
            <a:ext cx="30351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ажите основные элементы ку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2492280"/>
            <a:ext cx="2448000" cy="237672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2565360"/>
            <a:ext cx="936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1763640" y="2997360"/>
            <a:ext cx="576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4005360"/>
            <a:ext cx="936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1763640" y="2997360"/>
            <a:ext cx="576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4005360"/>
            <a:ext cx="936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619280" y="3644640"/>
            <a:ext cx="2592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1611360" y="4281480"/>
            <a:ext cx="728640" cy="8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3995640" y="1700280"/>
            <a:ext cx="936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19640" y="2205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2205000"/>
            <a:ext cx="5763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5003640" y="4076640"/>
            <a:ext cx="648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5808600" y="3975120"/>
            <a:ext cx="208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ш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5796000" y="4581360"/>
            <a:ext cx="208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б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5724360" y="5229360"/>
            <a:ext cx="208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кажите цвет фигуры, которая может быть гранью куба. Назовите эту фигур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1916280"/>
            <a:ext cx="1296720" cy="1295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1916280"/>
            <a:ext cx="1943280" cy="1295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5580000" y="2133720"/>
            <a:ext cx="2664000" cy="1079280"/>
          </a:xfrm>
          <a:prstGeom prst="parallelogram">
            <a:avLst>
              <a:gd name="adj" fmla="val 6170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4005360"/>
            <a:ext cx="1729080" cy="1584360"/>
          </a:xfrm>
          <a:prstGeom prst="hexagon">
            <a:avLst>
              <a:gd name="adj" fmla="val 27284"/>
              <a:gd name="vf" fmla="val 115470"/>
            </a:avLst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3564000" y="3789360"/>
            <a:ext cx="1655640" cy="1655640"/>
          </a:xfrm>
          <a:prstGeom prst="ellipse">
            <a:avLst/>
          </a:prstGeom>
          <a:solidFill>
            <a:srgbClr val="fb2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3500280"/>
            <a:ext cx="2124360" cy="1873440"/>
          </a:xfrm>
          <a:prstGeom prst="triangle">
            <a:avLst>
              <a:gd name="adj" fmla="val 50000"/>
            </a:avLst>
          </a:prstGeom>
          <a:solidFill>
            <a:srgbClr val="f418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Задача1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Выбрать одну из шести проекций видов спереди, сверху и слев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Текст 2"/>
          <p:cNvGraphicFramePr/>
          <p:nvPr/>
        </p:nvGraphicFramePr>
        <p:xfrm>
          <a:off x="179280" y="189000"/>
          <a:ext cx="1866960" cy="206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Текс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89000"/>
                    <a:ext cx="18669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Текст 2"/>
          <p:cNvGraphicFramePr/>
          <p:nvPr/>
        </p:nvGraphicFramePr>
        <p:xfrm>
          <a:off x="179280" y="4581360"/>
          <a:ext cx="1828800" cy="204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1" name="Текст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4581360"/>
                    <a:ext cx="1828800" cy="20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Текст 2"/>
          <p:cNvGraphicFramePr/>
          <p:nvPr/>
        </p:nvGraphicFramePr>
        <p:xfrm>
          <a:off x="179280" y="2349360"/>
          <a:ext cx="1838520" cy="2076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3" name="Текст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9280" y="2349360"/>
                    <a:ext cx="1838520" cy="20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Текст 2"/>
          <p:cNvGraphicFramePr/>
          <p:nvPr/>
        </p:nvGraphicFramePr>
        <p:xfrm>
          <a:off x="3708360" y="1457280"/>
          <a:ext cx="3327480" cy="5400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5" name="Текст 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08360" y="1457280"/>
                    <a:ext cx="332748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2771640" y="1413000"/>
            <a:ext cx="68436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Задача 2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Даны три проекции  куба. Определить соответствующий им куб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Текст 2"/>
          <p:cNvGraphicFramePr/>
          <p:nvPr/>
        </p:nvGraphicFramePr>
        <p:xfrm>
          <a:off x="2916360" y="1773360"/>
          <a:ext cx="5333760" cy="439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Текс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1773360"/>
                    <a:ext cx="533376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Текст 2"/>
          <p:cNvGraphicFramePr/>
          <p:nvPr/>
        </p:nvGraphicFramePr>
        <p:xfrm>
          <a:off x="539640" y="1628640"/>
          <a:ext cx="1263600" cy="4680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" name="Текст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640" y="1628640"/>
                    <a:ext cx="12636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635280" y="6308640"/>
            <a:ext cx="287280" cy="289080"/>
          </a:xfrm>
          <a:prstGeom prst="diamond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5435640" y="6308640"/>
            <a:ext cx="287280" cy="289080"/>
          </a:xfrm>
          <a:prstGeom prst="diamond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7164360" y="6237360"/>
            <a:ext cx="287280" cy="288720"/>
          </a:xfrm>
          <a:prstGeom prst="diamond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3492360" y="1413000"/>
            <a:ext cx="287640" cy="288720"/>
          </a:xfrm>
          <a:prstGeom prst="diamond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5292720" y="1413000"/>
            <a:ext cx="287280" cy="288720"/>
          </a:xfrm>
          <a:prstGeom prst="diamond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7020000" y="1413000"/>
            <a:ext cx="287280" cy="288720"/>
          </a:xfrm>
          <a:prstGeom prst="diamond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b2711"/>
                                      </p:to>
                                    </p:animClr>
                                    <p:set>
                                      <p:cBhvr>
                                        <p:cTn id="4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Задача 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еред вами изображение игрального кубика и его разверт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Текст 2"/>
          <p:cNvGraphicFramePr/>
          <p:nvPr/>
        </p:nvGraphicFramePr>
        <p:xfrm>
          <a:off x="971640" y="1844640"/>
          <a:ext cx="1849320" cy="180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Текс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844640"/>
                    <a:ext cx="184932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Текст 2"/>
          <p:cNvGraphicFramePr/>
          <p:nvPr/>
        </p:nvGraphicFramePr>
        <p:xfrm>
          <a:off x="250920" y="3789360"/>
          <a:ext cx="3743280" cy="2684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" name="Текст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3789360"/>
                    <a:ext cx="3743280" cy="26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3924360" y="2060640"/>
            <a:ext cx="3816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акое число находится на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ижней грани куба?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оковой грани слева?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оковой грани сзади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667640" y="3213000"/>
            <a:ext cx="1081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7667640" y="4076640"/>
            <a:ext cx="1081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7667640" y="4869000"/>
            <a:ext cx="1081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291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Задача 4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зображенные на рисунке тела состоят из кубиков. Сколько кубиков в каждом из них?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79640" y="5013360"/>
            <a:ext cx="10080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8172720" cy="2424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020000" y="4869000"/>
            <a:ext cx="10080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ЕШИТЬ САМОСТОЯТЕЛЬ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адача 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а видимых гранях куба проставлены числа 1, 2 и 3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 на развертках — два из названных чисел или одно. Расставьте на развертках куба числа 1, 2, 3, 4, 5, 6 так, чтобы сумма чисел на противоположных гранях была равна 7. 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042920" y="4005360"/>
            <a:ext cx="705816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думать свою занимательную задачу по нашей тем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1:12:12Z</dcterms:created>
  <dc:creator>Admin</dc:creator>
  <dc:description/>
  <dc:language>en-US</dc:language>
  <cp:lastModifiedBy>Alexander</cp:lastModifiedBy>
  <dcterms:modified xsi:type="dcterms:W3CDTF">2010-05-27T17:48:25Z</dcterms:modified>
  <cp:revision>6</cp:revision>
  <dc:subject/>
  <dc:title>КУБ И ЕГО СВОЙСТВА</dc:title>
</cp:coreProperties>
</file>